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88D3-3E67-49EE-986A-F41BABF4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F28E-F4F0-41D0-9BDF-FB9F4A55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259B-885E-4054-AEF4-4E436E1D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CA3C-1965-4766-827A-A531EC41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0A55-0776-43C2-BBDF-DCD978E4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7B0D-6043-4E41-9FAF-A217889D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C9AE-1AFB-4729-BA09-2242C3C4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E052-85F9-4447-9E62-6CA70E79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F495-574D-4CDB-9633-B710102B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0F0-6A3C-44F2-A8C1-15FB1B8C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EB57-B295-4AFA-BA6B-C122C463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8166-52B9-464B-A323-6D6E28E4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9680-D835-4F6E-9B56-C569447A20B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pippodio.supereva.it/pupo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t.send.greetings.yahoo.com/greet/send?.id=353032636&amp;.catu=/browse/Feste_e_ricorrenze/Stagioni/Primavera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ippodio.supereva.it/pupo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marilungo.com/altro/infanzia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533520"/>
            <a:ext cx="8229600" cy="13431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iano di formazione a sostegno dell’avvio della riforma degli ordinamenti scolastic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it-IT" sz="1800" spc="-1" strike="noStrike">
                <a:solidFill>
                  <a:srgbClr val="0066ff"/>
                </a:solidFill>
                <a:latin typeface="Times New Roman"/>
              </a:rPr>
              <a:t>(comunicazione  di  servizio  prot.  n.  2135/1/A  –  Roma,  10.04.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alunni" descr=""/>
          <p:cNvPicPr/>
          <p:nvPr/>
        </p:nvPicPr>
        <p:blipFill>
          <a:blip r:embed="rId1"/>
          <a:stretch/>
        </p:blipFill>
        <p:spPr>
          <a:xfrm>
            <a:off x="3297240" y="2206800"/>
            <a:ext cx="2549520" cy="244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solidFill>
            <a:srgbClr val="66ff33"/>
          </a:solidFill>
          <a:ln w="2232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otesi di percorso formativo proposte dalle linee  guida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uola prim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ità 1 (comune ai due segmenti) : -Scuola dell’infanzia e scuola primaria nel contesto della riforma del sistema di istruzione e form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ità 2  : La società della conoscenza. I saperi come diritto della persona e la centralità dell’apprendimento nella scuola riform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ità 3: Accoglienza e continuità . Gli antici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ità 4: La nuova configurazione della funzione docente  nella scuola prim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ità 5: Nuovi modelli organizzativi e strumentazione didattica della scuola prim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entro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190476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pup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91520" y="4724280"/>
            <a:ext cx="1523880" cy="1641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solidFill>
            <a:srgbClr val="66ff33"/>
          </a:solidFill>
          <a:ln w="2232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sorse finanziar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evia contrattazione con le OO.SS. e secondo le Linee Guida emanate dal MIUR, è prevista l’assegnazione a ciascun circolo didattico e istituto  comprensivo  di 1.500   Euro  ogni 40 docenti da form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’ auspicabile la costituzione di reti per  raggiungere il numero-tipo di docenti e per ottimizzare le risorse finanziarie disponib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8711600">
            <a:off x="178200" y="880200"/>
            <a:ext cx="2306520" cy="520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ccff"/>
              </a:gs>
            </a:gsLst>
            <a:lin ang="5400000"/>
          </a:gradFill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Modulo “0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cap1_monetizz" descr=""/>
          <p:cNvPicPr/>
          <p:nvPr/>
        </p:nvPicPr>
        <p:blipFill>
          <a:blip r:embed="rId2"/>
          <a:stretch/>
        </p:blipFill>
        <p:spPr>
          <a:xfrm>
            <a:off x="7543800" y="3809880"/>
            <a:ext cx="12682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33"/>
          </a:solidFill>
          <a:ln w="2232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empio di progettazione  di percorsi formativi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UOLA PRIMA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I PIANI DI STUDIO PERSONALIZZAT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Obiettivi formativ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nità didatt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borator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IL PORTFOL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unzione di orient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unzione di valut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involgimento dei genit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involgimento dell’alunn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33"/>
          </a:solidFill>
          <a:ln w="2232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empio di progettazione  di percorsi formativi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UOLA PRIMA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L’ORGANIZZAZIONE DIDAT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ttività in cla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ttività in laborato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empi alun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empi doc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33"/>
          </a:solidFill>
          <a:ln w="2232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empio di progettazione  di percorsi formativi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UOLA PRIMA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OVA FUNZIONE DOC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E ORGANIZZAZIONE DELL’EQUIPE PEDAGO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tu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responsabile dei labor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33"/>
          </a:solidFill>
          <a:ln w="2232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empio di progettazione  di percorsi formativi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UOLA PRIMA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7720" y="22856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OPERAZIONE TRA  DOCENTI E GENITOR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iano personalizzato attività educ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ortf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33"/>
          </a:solidFill>
          <a:ln w="2232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empio di progettazione  di percorsi formativi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UOLA DELL’INFANZ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TINUITA’ EDUC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za prima dei tre an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aggio alla scuola primaria prima dei sei an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tà orizzonta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tà verti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33"/>
          </a:solidFill>
          <a:ln w="2232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empio di progettazione  di percorsi formativi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UOLA DELL’INFANZ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33"/>
          </a:solidFill>
          <a:ln w="2232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empio di progettazione  di percorsi formativi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UOLA DELL’INFANZ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RGANIZZAZI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m doc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essibili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43000" y="457200"/>
            <a:ext cx="7162920" cy="459720"/>
          </a:xfrm>
          <a:prstGeom prst="rect">
            <a:avLst/>
          </a:prstGeom>
          <a:solidFill>
            <a:srgbClr val="66ff33"/>
          </a:solidFill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caratteristiche del piano di informazione/form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143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iano di informazione / formazi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sostegno della riforma presenta le seguenti priorità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2133720"/>
            <a:ext cx="784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ostenere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l’attuazione del quadro innovativo della riforma,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 tramite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ercorsi di informazione ed itinerari formativi sui principali profili ordinamentali e nuclei tematic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42900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antici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flessibilità organizzativa, didattica, laboratori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ontinuit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obiettivi generali e specifici di apprendimento e obiettivi formativ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iani personalizza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équipe pedagog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articolazione della funzione doc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rofili culturali e professiona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ortfolio delle competenze individua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657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afforzare le competenze linguistiche e metodologico-didattiche per l’insegnamento precoce della lingua straniera (ingle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5029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afforzare le competenze informatiche e metodologiche per l’uso didattico delle tecnologie della comunicazione e dell’inform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438280" y="914400"/>
            <a:ext cx="586764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rivolta a tutto il personale delle scuole dell’infanzia e primarie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ali e parita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1981080"/>
            <a:ext cx="586764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tramite 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a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 avvia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menti informativi in presenz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rticolat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percorsi formativ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o il modell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learning integ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 rot="4700400">
            <a:off x="-430920" y="2118240"/>
            <a:ext cx="404640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808000"/>
                  </a:solidFill>
                  <a:miter/>
                </a:ln>
                <a:solidFill>
                  <a:srgbClr val="00cc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Formazione</a:t>
            </a:r>
            <a:endParaRPr b="0" lang="en-US" sz="2400" spc="1" strike="noStrike">
              <a:ln w="12600">
                <a:solidFill>
                  <a:srgbClr val="808000"/>
                </a:solidFill>
                <a:miter/>
              </a:ln>
              <a:solidFill>
                <a:srgbClr val="00cc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3429000"/>
            <a:ext cx="2438280" cy="1191240"/>
          </a:xfrm>
          <a:prstGeom prst="rect">
            <a:avLst/>
          </a:prstGeom>
          <a:solidFill>
            <a:srgbClr val="00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collaborazione con l’INDIRE (Piattaforma PUNTOEDU) e RAI EDUC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4724280"/>
            <a:ext cx="5943600" cy="157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Piano si articola i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odulo “0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oduli success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8711600">
            <a:off x="514800" y="1362960"/>
            <a:ext cx="2306520" cy="520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ccff"/>
              </a:gs>
            </a:gsLst>
            <a:lin ang="5400000"/>
          </a:gradFill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Modulo “0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990720"/>
            <a:ext cx="556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- è finalizzato all’informazione diffusa e partecipata, sugli elementi strutturali e costitutivi della ri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45720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- è propedeutico alla formazione success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17524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i sviluppa in diverse  fa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228600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ferenza di servizio naziona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per direttore scolastico regionale e per il referente regionale per la scuola dell’infanzia e per il referente regionale per la scuola primaria - 16.04.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342900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izzazione delle linee di indirizzo e dei materiali a liv. regiona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in seno al Gruppo Tecnico di supporto alla riforma)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anificazione degli interventi successi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44956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contri/conferenz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rivolti a tutti i dirigenti scolastici e almeno a un docente referente del processo di innovazione delle scuole dell’infanzia e delle scuole primarie, statali e paritarie (metà aprile  / prima decade magg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59356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rofondimento /riflessio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a attuare entro giugno all’interno di ogni singola scuola e/o nell’ambito di scuole organizzate in 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1905120"/>
            <a:ext cx="152280" cy="304560"/>
          </a:xfrm>
          <a:custGeom>
            <a:avLst/>
            <a:gdLst>
              <a:gd name="textAreaLeft" fmla="*/ 20160 w 152280"/>
              <a:gd name="textAreaRight" fmla="*/ 132120 w 152280"/>
              <a:gd name="textAreaTop" fmla="*/ 53280 h 304560"/>
              <a:gd name="textAreaBottom" fmla="*/ 2210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rot="18711600">
            <a:off x="-110880" y="1474920"/>
            <a:ext cx="3495600" cy="520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ccff"/>
              </a:gs>
            </a:gsLst>
            <a:lin ang="5400000"/>
          </a:gradFill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Moduli success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762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.s. 2003 /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1295280"/>
            <a:ext cx="52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luralità di interventi formativi articolati lungo l’intero corso del prossimo anno scolastic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stenere e valorizzare l’attuazione del quadro innovativo della ri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743200"/>
            <a:ext cx="5105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artecipazione attiva delle scuole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mi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l coinvolgimento diretto di dirigenti scolastici e docenti in percorsi di analisi, riflessione, approfondimento, contestualizzazione dei contenuti e dei materiali che saranno disponibili da settembre sulla piattaforma INDIRE,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5029200"/>
            <a:ext cx="5181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upporto, nelle attività di approfondimento / riflessione, a cura di docent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utor/facilitator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a per i percorsi di formazione  sul quadro della riforma che per quelli relativi alla l. inglese e all’uso delle 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762120"/>
          </a:xfrm>
          <a:prstGeom prst="rect">
            <a:avLst/>
          </a:prstGeom>
          <a:solidFill>
            <a:srgbClr val="66ff33"/>
          </a:solidFill>
          <a:ln w="22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empimenti per le scu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ettazione e realizzazione di percorsi di formazione destinati al dirigente e ai docenti,  strutturati in 5 unità didattiche di quattro ore ciascuna per ogni segm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ni percorso coinvolgerà fino a un massimo di 40 doc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ni corsista fruirà di 20  ore di form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linee guida suggeriscono un ulteriore modulo di richiamo di 8 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04920" y="533520"/>
            <a:ext cx="4038480" cy="1676160"/>
            <a:chOff x="304920" y="533520"/>
            <a:chExt cx="4038480" cy="1676160"/>
          </a:xfrm>
        </p:grpSpPr>
        <p:pic>
          <p:nvPicPr>
            <p:cNvPr id="71" name="BS01590_" descr=""/>
            <p:cNvPicPr/>
            <p:nvPr/>
          </p:nvPicPr>
          <p:blipFill>
            <a:blip r:embed="rId1"/>
            <a:stretch/>
          </p:blipFill>
          <p:spPr>
            <a:xfrm>
              <a:off x="304920" y="533520"/>
              <a:ext cx="176040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013480" y="972360"/>
              <a:ext cx="2329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609480"/>
          </a:xfrm>
          <a:prstGeom prst="rect">
            <a:avLst/>
          </a:prstGeom>
          <a:solidFill>
            <a:srgbClr val="66ff33"/>
          </a:solidFill>
          <a:ln w="2232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ticolazione del percor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tà didattica  iniziale comune per la scuola dell’infanzia e primaria – 4 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unità di 4 ore ciascuna rispettivamente per la scuola dell’infanzia e per la scuola primaria - 16 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e istituzioni scolastiche che comprendono entrambi i   segmenti organizzeranno 36 ore di formazione 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4 (comuni)+16 (infanzia) +16 (primaria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uale modulo di richiamo ( 8 o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4267080"/>
            <a:ext cx="106668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4800600"/>
            <a:ext cx="106704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4876920"/>
            <a:ext cx="1066680" cy="533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14800" y="5410080"/>
            <a:ext cx="1066680" cy="533520"/>
          </a:xfrm>
          <a:prstGeom prst="rect">
            <a:avLst/>
          </a:prstGeom>
          <a:solidFill>
            <a:srgbClr val="ff33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solidFill>
            <a:srgbClr val="66ff33"/>
          </a:solidFill>
          <a:ln w="2232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te dell’USR relative ai tempi di realizz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Entro la fine di giug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ima unità:incontro informativo  per i CdD (primaria e infanzi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ogettazione delle unità didattiche da realizzare successiv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Nel mese di settemb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Unità didattiche  di formazione ed eventuale  modulo di richia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alend1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1295280" cy="1274760"/>
          </a:xfrm>
          <a:prstGeom prst="rect">
            <a:avLst/>
          </a:prstGeom>
          <a:ln w="0">
            <a:noFill/>
          </a:ln>
        </p:spPr>
      </p:pic>
      <p:pic>
        <p:nvPicPr>
          <p:cNvPr id="82" name="calend1" descr=""/>
          <p:cNvPicPr/>
          <p:nvPr/>
        </p:nvPicPr>
        <p:blipFill>
          <a:blip r:embed="rId2"/>
          <a:stretch/>
        </p:blipFill>
        <p:spPr>
          <a:xfrm>
            <a:off x="7620120" y="3882960"/>
            <a:ext cx="1295280" cy="1274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219320"/>
          </a:xfrm>
          <a:prstGeom prst="rect">
            <a:avLst/>
          </a:prstGeom>
          <a:solidFill>
            <a:srgbClr val="66ff33"/>
          </a:solidFill>
          <a:ln w="2232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otesi di percorso formativo proposte dalle linee  guida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uola dell’Infanz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315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tà 1 (comune ai due segmenti) : -Scuola dell’infanzia e scuola primaria nel contesto della riforma del sistema di istruzione e form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tà 2  : La società della conoscenza. I saperi come diritto della persona e la centralità dell’apprendimento nella scuola riform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tà 3: Accoglienza e continuità . Gli antici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tà 4: Ruolo e funzione degli insegnanti nella nuova scuola dell’infanz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tà 5: Nuovi modelli organizzativi e strumentazione didattica della scuola dell’infanz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upo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4724280"/>
            <a:ext cx="1523880" cy="1641600"/>
          </a:xfrm>
          <a:prstGeom prst="rect">
            <a:avLst/>
          </a:prstGeom>
          <a:ln w="0">
            <a:noFill/>
          </a:ln>
        </p:spPr>
      </p:pic>
      <p:pic>
        <p:nvPicPr>
          <p:cNvPr id="86" name="infanzia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914400"/>
            <a:ext cx="1218960" cy="1353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23:13Z</dcterms:created>
  <dc:creator>AZ</dc:creator>
  <dc:description/>
  <dc:language>en-US</dc:language>
  <cp:lastModifiedBy>misso</cp:lastModifiedBy>
  <dcterms:modified xsi:type="dcterms:W3CDTF">2003-05-28T11:10:37Z</dcterms:modified>
  <cp:revision>36</cp:revision>
  <dc:subject/>
  <dc:title>Presentazione di PowerPoint</dc:title>
</cp:coreProperties>
</file>